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ff"/>
              </a:solidFill>
              <a:latin typeface="Arial"/>
            </a:endParaRPr>
          </a:p>
        </p:txBody>
      </p:sp>
      <p:sp>
        <p:nvSpPr>
          <p:cNvPr id="4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move the slide</a:t>
            </a:r>
            <a:endParaRPr b="0" lang="en-US" sz="3000" spc="-1" strike="noStrike">
              <a:solidFill>
                <a:srgbClr val="4e5b6f"/>
              </a:solidFill>
              <a:latin typeface="Arial"/>
            </a:endParaRPr>
          </a:p>
        </p:txBody>
      </p:sp>
      <p:sp>
        <p:nvSpPr>
          <p:cNvPr id="4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ölüm IX</a:t>
            </a:r>
            <a:endParaRPr b="0" lang="en-US" sz="1200" spc="-1" strike="noStrike">
              <a:solidFill>
                <a:srgbClr val="000000"/>
              </a:solidFill>
              <a:latin typeface="Times New Roman"/>
            </a:endParaRPr>
          </a:p>
        </p:txBody>
      </p:sp>
      <p:sp>
        <p:nvSpPr>
          <p:cNvPr id="42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4613-7B95-466C-9D7B-D6376722289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AB3C-8AF9-4998-AFA1-181E6DF1F7F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F008-2CD4-4EBD-A812-33D611957B9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7AFD-33CE-446C-9F0E-633C3BCDC44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0DD7-ED34-433A-BF78-C1F78C049AFA}"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EBE1-B6DD-4539-B9C5-456B054762A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8FDB-BA59-48C8-A1EE-A3C5B23B4081}"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4189-10C0-4079-945D-6E7450303530}"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0F93-3362-414B-A7F0-E2680D1A87D2}"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9E6D-8E99-4E22-86B4-31FAE6C65269}"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1DB6-AA74-459D-9E04-9657C9ED450C}"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DA50-5F01-41BC-AA5A-E95968659909}"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3DEB-63C8-4B0F-BD52-EF851DB3FEF7}"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2CA4-A56B-45EC-B53F-54CC4AD5F2F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C854-56C5-4BB5-9BAF-227CB4E9FEF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3856-6BF8-43BF-98DF-01616BCB0041}"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D948-C85E-41F8-9DF6-2886733310C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108C-F424-44B2-B016-20393F11C861}"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1F77-D6B2-488D-8FFB-21C37E8FB3A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9FAD-519F-469D-BC5A-D038B049B0BC}"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6CFB-541F-4ECD-B13E-54466EE3AAD7}"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3B59-89C8-4DBB-8369-AB74D3913A3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81AB-23D3-48E1-AEC7-A0FBE9BA311F}"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1C20-AF16-4D41-8466-D9041C2391FA}"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930D-ACBA-4A09-89B5-E9339410EF39}"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3462-2E2F-4CB5-A5A3-E1E88C278DA0}"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B9EC-7729-4668-8F6D-576AB08FCCB0}"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C939-E30D-40A2-9FD7-F113E28B689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78AF-29BB-4C88-B332-8332C8E6141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BB64-9C44-44A6-888E-B5F207D6B971}"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3527-E8BA-407D-90ED-72B0E42DBEA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E306-289B-4545-BAF3-A9624754FE9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50D8-DC36-4C5D-8265-443F79F25DEC}"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C0992-C21B-44C1-BD14-1ECD53D39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9B54-320D-4594-BF2C-5D5A541C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47A5B-0B33-4EF2-A7F2-97EC15376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F976D-51C1-4FDB-809D-719CA29C0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3FEC5-0FFD-40BC-BB52-748FC515E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A3F6E-6A9C-452B-B3AC-FC6E8066D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8E346-36FF-407B-B334-F5E2EBA9C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3C593-07BE-4FD0-A607-213872B3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FF3B1-6082-4D26-8392-A3F6AF16A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900AC-21AF-44F8-BDE8-8BB0278F9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938C4-E4C0-44B2-B3F3-9E43630F7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DF67-47E6-4346-B150-FE9B65E0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35CE-9E0D-482C-997B-92BC3AAE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3ABB9-8AEF-4CF2-BDF5-5411C8011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3D147-38C8-4080-970E-32DA94A8A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7F6BE-DEC8-49A4-8C81-2EAD99624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CFAC8-7FBE-40E7-8CDC-4CAA16F7D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0105D-C145-4BB8-B4C1-87B10D4F6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97FC1-8F1C-4651-8DDD-458C0808D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CF7F0-1716-497C-BA63-5EA759BA0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6E90B-4477-45DA-83CF-948E37CD5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38448-0209-4F14-86A0-BD2572B1C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A5E1-1393-4452-A99E-CA40A492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B757E-FD6C-4C14-B050-53D896AFA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83181-6B60-4914-A5BA-0050B14AD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4A7E6-BE6C-4477-A218-8CA132176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C6DC4-B2A8-4B5A-82DC-B6B611491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AB0BE-4392-474B-B4B6-A6D6C4727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8D1F9-B850-447F-A882-A9C4814D2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87730-0845-4B60-8BFB-D2E2B8BC5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74B786-84EF-42E1-80CD-A0EDC1065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5CB1C3-EE35-4715-B5CF-3104633AD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D8442A-4FBD-4DA9-9AB7-ABD237EB0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39F0-ED02-407A-BAAC-92CDA42B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8474ED1-34C8-47D0-A739-6FC6E576A5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8338A3-2201-43E8-AA40-1B19DD9E8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70FF16-EE04-4AAD-BBDA-B81F831DC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E0FF63-0E03-480C-BC04-79A740F54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0D5730-6726-4340-8793-E6AB87932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4D0301-90F1-4D08-875D-F390FBA73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ED472F-FF39-4DB2-AC83-369704BAE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BDCC3B-34BD-4E8C-BC1C-9A002EC04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A98DFD6-A09E-4243-9D20-02D1472E5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B11EBB-A9FF-46A7-91C5-08C2D9CAD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94AA-2689-49C7-A40A-BE63789C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63BB7-B605-475B-A2EC-3B1029E28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C8348A-3341-48EC-BB5C-4C1F7ABDD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1C003-313A-4C27-9144-440ED9080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11BDC-6684-41A9-BBA3-76610F4B8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62861-F371-4E7B-B9B1-66634A290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FCC5E-D0B9-44D5-8E87-98DE0C5CA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E50D5-91B8-4D23-8B1B-A0CED8588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5195B-18A4-4658-A32E-702139142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AAA4F-E822-44F6-B5A8-21526628E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8521B5-304B-4529-82FA-0C79D81D9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2D8E-A91E-4D92-BF83-FFA5956AF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ECF3D9-4934-499F-B47B-1A1D818094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D02C5DE-438C-412D-91F2-B6B146C51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275ADB-40CE-4CB7-A9E8-1B72727A65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1F8CE94-DD09-4BF7-B956-6E7322163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0AC64A-A665-47EA-8C3F-B79AD2C387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682950-17DC-49E3-B5CB-BA6BEAA8A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5B1CC23-BD5F-4081-BB63-D914584F2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8B152E-4CEE-4E96-9C59-C5EC94C1C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45FDE0-7526-4AC9-AEA2-6981D786D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52D3FF-32F7-4442-9695-F28ED9D54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6299-1EE6-4B0C-9239-A77E5B45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1DD7211-3DBB-46B1-8B17-918F20DA4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3C2ACC0-2FB4-4833-92ED-2E51E4B48B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317FD11-34D9-4185-B061-7F287F33D8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96D808-292B-4B27-BD5E-E25C00420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2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DC92EA-832C-497F-8A02-8616D048A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2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704636-2C9A-4423-838B-7B93D77FC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96D1F4-451D-4A21-8D4E-3C779300F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8EAFD6-B147-4738-8EB9-89CD65456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033FC6-29A9-4AC6-B058-AC46805F9F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9DACB8-242F-4A88-93B2-B147CBB00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A422-E021-4C4C-9B89-4E7ED7262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DBAACD-272D-4F6A-B7C9-BCE0BA4EE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C32B65-B15E-46F0-A9B8-DB819D65C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D85BF0-1BE3-4F9F-9357-CC3CFE1F1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4AB29F6-150D-4EDE-BADE-8A023B556D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F451C1B-0201-43A0-BBAE-7AFE2E9C39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D92ED54-89D5-4C4C-A597-FFB4F049D2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6EEDC47-094D-4940-9890-4C78FCD8EA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D796E7C-C06E-416F-84CD-759A5EE0A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D2536B2-07D6-4800-8B2B-BB9133DA4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775295E-7130-49CD-BDE8-B92D8A191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3CD4-DA2D-4226-955E-BA9FBA19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EC2B3D6-BD4C-4231-A23A-BEBEF2ABB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2670A6E-3617-496B-BBFA-E73552864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D4F8A9A-671D-4FD4-AE59-CEA994C79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605D057-4893-4C48-ABCF-CBB3BAC0A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4F19A4F-9C1E-4986-A866-CCA2C0EF9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D8183D2-70FB-4070-B969-D9DF1B11D2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2385B1C-E479-45A4-9633-01870F98859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eff"/>
            </a:gs>
            <a:gs pos="100000">
              <a:srgbClr val="60606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3333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3333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8989-DF8D-40D3-B998-64375CE5A7B7}" type="datetime">
              <a:rPr b="0" lang="tr-TR" sz="1200" spc="-1" strike="noStrike">
                <a:solidFill>
                  <a:srgbClr val="79551b"/>
                </a:solidFill>
                <a:latin typeface="Palatino Linotype"/>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8B3E-E301-4323-805B-2029A054FBE6}" type="slidenum">
              <a:rPr b="0" lang="tr-T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5132-912C-4D60-B9E0-E3ABF838852A}"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6"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7"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8"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9"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50"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DA4B-3143-430E-ADD4-9D891030F3EB}"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8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8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4" name="12 Dikdörtgen"/>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5" name="14 Dikdörtgen"/>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6" name="16 Dikdörtgen"/>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7" name="17 Dikdörtgen"/>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8" name="18 Düz Bağlayıcı"/>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9" name="19 Düz Bağlayıcı"/>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0" name="20 Düz Bağlayıcı"/>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1" name="23 Düz Bağlayıcı"/>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2" name="24 Düz Bağlayıcı"/>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3" name="25 Düz Bağlayıcı"/>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4" name="26 Dikdörtgen"/>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5" name="27 Oval"/>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6" name="28 Oval"/>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7" name="29 Oval"/>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8" name="30 Oval"/>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9" name="31 Oval"/>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2"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AF12-6F1A-4B13-A1DB-E4C2DE5D0242}"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113"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14"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FE5F-09CD-4FDA-BB0E-8A2DCB241AA5}"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15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2"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3"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4"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55"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6"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1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9"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E450-F211-487B-85F7-D37ACA0888B1}"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160"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C748-1384-4A11-B6C7-4314504CC014}"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1"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19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9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4" name="12 Dikdörtgen"/>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5" name="14 Dikdörtgen"/>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6" name="16 Dikdörtgen"/>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7" name="17 Dikdörtgen"/>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8" name="18 Düz Bağlayıcı"/>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9" name="19 Düz Bağlayıcı"/>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0" name="20 Düz Bağlayıcı"/>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1" name="23 Düz Bağlayıcı"/>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2" name="24 Düz Bağlayıcı"/>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3" name="25 Dikdörtgen"/>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4" name="26 Oval"/>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5" name="27 Oval"/>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6" name="28 Oval"/>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7" name="29 Oval"/>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8" name="30 Oval"/>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9" name="31 Düz Bağlayıcı"/>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2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22"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0602-646F-4E39-9146-A780504276E1}"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223"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24"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2E71-A884-4833-8886-6B5637236677}"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26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2"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3"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4"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65"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6"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2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69"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78E4-A83F-475A-8DC6-045C606274B2}"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270"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662B-AC1E-419F-9283-A84D66242E7C}"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1"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30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0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4" name="12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5" name="14 Düz Bağlayıcı"/>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6" name="16 Düz Bağlayıcı"/>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7" name="17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8" name="18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9" name="19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20" name="20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3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23"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351D-14B5-4FBC-A2D3-30A42661289E}"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324"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5CD9-5A48-434F-BAF3-9D713AB63E72}"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25"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362"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3"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4"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5"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66"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7"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68" name="12 Düz Bağlayıcı"/>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9" name="14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70" name="16 Düz Bağlayıcı"/>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1" name="17 Dikdörtgen"/>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72" name="18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3" name="19 Düz Bağlayıcı"/>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4" name="20 Düz Bağlayıcı"/>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77"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2DCB-B2FB-44DC-882D-7142F61F9EEA}" type="datetime">
              <a:rPr b="0" lang="tr-TR" sz="1200" spc="-1" strike="noStrike">
                <a:solidFill>
                  <a:srgbClr val="4e5b6f"/>
                </a:solidFill>
                <a:latin typeface="Times New Roman"/>
              </a:rPr>
              <a:t>31.07.26</a:t>
            </a:fld>
            <a:endParaRPr b="0" lang="en-US" sz="1200" spc="-1" strike="noStrike">
              <a:solidFill>
                <a:srgbClr val="000000"/>
              </a:solidFill>
              <a:latin typeface="Times New Roman"/>
            </a:endParaRPr>
          </a:p>
        </p:txBody>
      </p:sp>
      <p:sp>
        <p:nvSpPr>
          <p:cNvPr id="378"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852E-CBDB-4926-9639-35DB4F88DCA9}"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9"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42720" y="1071720"/>
            <a:ext cx="6172200" cy="189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tr-TR" sz="4000" spc="-1" strike="noStrike">
                <a:solidFill>
                  <a:srgbClr val="4e5b6f"/>
                </a:solidFill>
                <a:latin typeface="Arial"/>
              </a:rPr>
              <a:t>BİREY VE GRUPLARLA ÇALIŞMA</a:t>
            </a:r>
            <a:endParaRPr b="0" lang="en-US" sz="4000" spc="-1" strike="noStrike">
              <a:solidFill>
                <a:srgbClr val="4e5b6f"/>
              </a:solidFill>
              <a:latin typeface="Arial"/>
            </a:endParaRPr>
          </a:p>
        </p:txBody>
      </p:sp>
      <p:sp>
        <p:nvSpPr>
          <p:cNvPr id="424" name="PlaceHolder 2"/>
          <p:cNvSpPr>
            <a:spLocks noGrp="1"/>
          </p:cNvSpPr>
          <p:nvPr>
            <p:ph type="subTitle"/>
          </p:nvPr>
        </p:nvSpPr>
        <p:spPr>
          <a:xfrm>
            <a:off x="2285640" y="3571560"/>
            <a:ext cx="6172200" cy="28033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Necmettin TÜRKMEN</a:t>
            </a: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Emine BORAN</a:t>
            </a: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Oya KARADENİZ</a:t>
            </a:r>
            <a:endParaRPr b="0" lang="en-US" sz="3000" spc="-1" strike="noStrike">
              <a:solidFill>
                <a:srgbClr val="000000"/>
              </a:solidFill>
              <a:latin typeface="Times New Roman"/>
            </a:endParaRPr>
          </a:p>
        </p:txBody>
      </p:sp>
      <p:sp>
        <p:nvSpPr>
          <p:cNvPr id="425" name="3 Veri Yer Tutucusu"/>
          <p:cNvSpPr/>
          <p:nvPr/>
        </p:nvSpPr>
        <p:spPr>
          <a:xfrm rot="5400000">
            <a:off x="7764480" y="1174680"/>
            <a:ext cx="2286000" cy="380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996A-F065-430A-A210-E95A6AB8DBA5}"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26" name="5 Slayt Numarası Yer Tutucusu"/>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803F-9AB2-40E0-B05C-503521BBAB4B}"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91BF-AE10-4581-B33B-F1E6F5634B45}"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6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CECD-6298-4486-B0A6-F08A666EEA79}"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67" name="Text Box 3"/>
          <p:cNvSpPr/>
          <p:nvPr/>
        </p:nvSpPr>
        <p:spPr>
          <a:xfrm>
            <a:off x="1979640" y="2224080"/>
            <a:ext cx="396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68" name="2 İçerik Yer Tutucusu"/>
          <p:cNvSpPr/>
          <p:nvPr/>
        </p:nvSpPr>
        <p:spPr>
          <a:xfrm>
            <a:off x="457200" y="1052640"/>
            <a:ext cx="8229600" cy="5256000"/>
          </a:xfrm>
          <a:prstGeom prst="rect">
            <a:avLst/>
          </a:prstGeom>
          <a:noFill/>
          <a:ln w="0">
            <a:noFill/>
          </a:ln>
        </p:spPr>
        <p:style>
          <a:lnRef idx="0"/>
          <a:fillRef idx="0"/>
          <a:effectRef idx="0"/>
          <a:fontRef idx="minor"/>
        </p:style>
        <p:txBody>
          <a:bodyPr lIns="90000" rIns="90000" tIns="46800" bIns="46800" anchor="t">
            <a:no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29516d"/>
                </a:solidFill>
                <a:latin typeface="Arial"/>
                <a:ea typeface="Times New Roman"/>
              </a:rPr>
              <a:t>   </a:t>
            </a:r>
            <a:r>
              <a:rPr b="0" lang="tr-TR" sz="3600" spc="-1" strike="noStrike">
                <a:solidFill>
                  <a:srgbClr val="29516d"/>
                </a:solidFill>
                <a:latin typeface="Arial"/>
                <a:ea typeface="Times New Roman"/>
              </a:rPr>
              <a:t>İyi bir şekilde uygulanan denetleme işlemi, bireyin gelişmesine yardımcı olur ve çalışmalarında değişiklikler yaratır.Teftişte en çok uygulanan yöntem bireylerin çalışmalarını gözleme, denetleme ve yardımcı olmayı kapsayan ziyaretlerdir</a:t>
            </a:r>
            <a:r>
              <a:rPr b="1" lang="tr-TR" sz="3600" spc="-1" strike="noStrike">
                <a:solidFill>
                  <a:srgbClr val="29516d"/>
                </a:solidFill>
                <a:latin typeface="Arial"/>
                <a:ea typeface="Times New Roman"/>
              </a:rPr>
              <a:t>.</a:t>
            </a:r>
            <a:endParaRPr b="0" lang="en-US" sz="3600" spc="-1" strike="noStrike">
              <a:solidFill>
                <a:srgbClr val="3333ff"/>
              </a:solidFill>
              <a:latin typeface="Arial"/>
            </a:endParaRPr>
          </a:p>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188640"/>
            <a:ext cx="8209080" cy="8665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f2377"/>
                </a:solidFill>
                <a:latin typeface="Arial"/>
              </a:rPr>
              <a:t>BİREYLE ÇALIŞMADA DİKKAT EDİLECEK HUSUSLAR</a:t>
            </a:r>
            <a:endParaRPr b="0" lang="en-US" sz="2500" spc="-1" strike="noStrike">
              <a:solidFill>
                <a:srgbClr val="4e5b6f"/>
              </a:solidFill>
              <a:latin typeface="Arial"/>
            </a:endParaRPr>
          </a:p>
        </p:txBody>
      </p:sp>
      <p:sp>
        <p:nvSpPr>
          <p:cNvPr id="4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B4F1-8809-4E85-B8D8-42474DDC28E4}"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7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9442-3395-4FE7-8F16-87C761C75AC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73" name="Text Box 4"/>
          <p:cNvSpPr/>
          <p:nvPr/>
        </p:nvSpPr>
        <p:spPr>
          <a:xfrm>
            <a:off x="755640" y="11253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Çalışılan kişilerin küçümsenmemesi, çok                 abartılmadan değer verilmes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e güven duyulmalı,kuşkulu davranmadan her söylenen peşinen kabul edilmemel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Yaşlı kişilere ve bayanlara nazik davranılmalı, görevin gerekleri aranmalı</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in olumlu davranışları takdir edilmel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in hataları başkalarının yanında ortaya konulmamalı</a:t>
            </a:r>
            <a:endParaRPr b="0" lang="en-US" sz="3000" spc="-1" strike="noStrike">
              <a:solidFill>
                <a:srgbClr val="3333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94920" y="0"/>
            <a:ext cx="8209080" cy="10555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2377"/>
                </a:solidFill>
                <a:latin typeface="Arial"/>
              </a:rPr>
              <a:t>BİREYLE ÇALIŞMADA DİKKAT EDİLECEK HUSUSLAR</a:t>
            </a:r>
            <a:endParaRPr b="0" lang="en-US" sz="2800" spc="-1" strike="noStrike">
              <a:solidFill>
                <a:srgbClr val="4e5b6f"/>
              </a:solidFill>
              <a:latin typeface="Arial"/>
            </a:endParaRPr>
          </a:p>
        </p:txBody>
      </p:sp>
      <p:sp>
        <p:nvSpPr>
          <p:cNvPr id="4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CB63-2C9B-4F51-BBF6-11EAE7DA4EB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7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E3B8-EC34-4028-A208-D536377C8F5B}"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78" name="Text Box 4"/>
          <p:cNvSpPr/>
          <p:nvPr/>
        </p:nvSpPr>
        <p:spPr>
          <a:xfrm>
            <a:off x="755640" y="1125360"/>
            <a:ext cx="7993080" cy="4786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6.Kişilerin yetenek ve yeterlikleri göz önünde   bulundurulmalı</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7. Kişinin yetersizliği ya da problemleri koz olarak kullanılmamalı</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8. Kişi hakkında başkalarının görüşleri alındığında yergi içerikli söylemlerin kaynakları belirtilmemeli</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9. Kişiye karşı sabırlı olunmalı, sorularına yanıt verilmeli</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10.Çalışma  yapılırken insan ilişkilerine önem verilmeli</a:t>
            </a:r>
            <a:endParaRPr b="0" lang="en-US" sz="2800" spc="-1" strike="noStrike">
              <a:solidFill>
                <a:srgbClr val="3333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549000"/>
            <a:ext cx="7704000" cy="64764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BİREYLERLE GÖRÜŞME</a:t>
            </a:r>
            <a:endParaRPr b="0" lang="en-US" sz="3400" spc="-1" strike="noStrike">
              <a:solidFill>
                <a:srgbClr val="4e5b6f"/>
              </a:solidFill>
              <a:latin typeface="Arial"/>
            </a:endParaRPr>
          </a:p>
        </p:txBody>
      </p:sp>
      <p:sp>
        <p:nvSpPr>
          <p:cNvPr id="4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39BA-C1A9-4857-8BD3-AA5940FBDF12}"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8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3872-45C5-4B8E-BCEB-BF30105BA55A}"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83" name="Rectangle 4"/>
          <p:cNvSpPr/>
          <p:nvPr/>
        </p:nvSpPr>
        <p:spPr>
          <a:xfrm>
            <a:off x="971640" y="1268280"/>
            <a:ext cx="748800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13b75"/>
                </a:solidFill>
                <a:latin typeface="Arial"/>
              </a:rPr>
              <a:t>Görüşme İlkeleri:</a:t>
            </a:r>
            <a:endParaRPr b="0" lang="en-US" sz="3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Tarafsızlık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Dinleme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Anlayış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İşbirliği</a:t>
            </a:r>
            <a:endParaRPr b="0" lang="en-US" sz="4000" spc="-1" strike="noStrike">
              <a:solidFill>
                <a:srgbClr val="3333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11280" y="259920"/>
            <a:ext cx="8137440" cy="93996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1f2377"/>
                </a:solidFill>
                <a:latin typeface="Arial"/>
              </a:rPr>
              <a:t>GÖRÜŞMELERDE DİKKAT EDİLECEK HUSUSLAR</a:t>
            </a:r>
            <a:endParaRPr b="0" lang="en-US" sz="2700" spc="-1" strike="noStrike">
              <a:solidFill>
                <a:srgbClr val="4e5b6f"/>
              </a:solidFill>
              <a:latin typeface="Arial"/>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9B6E-1B38-4324-8518-DC1D09CC52CA}"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8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C78D-EB61-42B1-AF3B-2DD6E7327155}"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88" name="Text Box 4"/>
          <p:cNvSpPr/>
          <p:nvPr/>
        </p:nvSpPr>
        <p:spPr>
          <a:xfrm>
            <a:off x="684360" y="1125360"/>
            <a:ext cx="82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1. Görüşme bir gereksinmeyi karşılamak için yapı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2. Görüşme dikkatle tasar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3. Görüşmeye olumlu olarak baş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4. Konular sınırlı tutu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5. Görüşme süreci, konuya, ortama göre ayar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6. Bireylerin tüm gerçeklikleri konuşabilecekleri bir </a:t>
            </a:r>
            <a:r>
              <a:rPr b="0" lang="tr-TR" sz="2400" spc="-1" strike="noStrike">
                <a:solidFill>
                  <a:srgbClr val="29516d"/>
                </a:solidFill>
                <a:latin typeface="Arial"/>
              </a:rPr>
              <a:t>güven</a:t>
            </a:r>
            <a:r>
              <a:rPr b="0" lang="tr-TR" sz="2500" spc="-1" strike="noStrike">
                <a:solidFill>
                  <a:srgbClr val="29516d"/>
                </a:solidFill>
                <a:latin typeface="Arial"/>
              </a:rPr>
              <a:t> ortamı yaratı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7. Anlayışlı olmalı, insanları olduğu gibi kabul etmeli,</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8. Görüşülen kişinin duyguları incitilmemeli, </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9. Görüşme sonunda önemli hususlar tekrar belirtilmeli,</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10. Yapılan görüşmenin devam ve tamamlılığı konusunda karar alınmalı.</a:t>
            </a:r>
            <a:endParaRPr b="0" lang="en-US" sz="2500" spc="-1" strike="noStrike">
              <a:solidFill>
                <a:srgbClr val="3333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9280" y="691920"/>
            <a:ext cx="8137800" cy="10810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GÖRÜŞMEDE  KULLANILAN SORU TÜRLERİ</a:t>
            </a:r>
            <a:endParaRPr b="0" lang="en-US" sz="3600" spc="-1" strike="noStrike">
              <a:solidFill>
                <a:srgbClr val="4e5b6f"/>
              </a:solidFill>
              <a:latin typeface="Arial"/>
            </a:endParaRPr>
          </a:p>
        </p:txBody>
      </p:sp>
      <p:sp>
        <p:nvSpPr>
          <p:cNvPr id="49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EF19-6039-4F56-B82F-31FDF0E6B3B9}"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9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666B-FCCC-420E-9330-3045BC830C41}"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92" name="Text Box 4"/>
          <p:cNvSpPr/>
          <p:nvPr/>
        </p:nvSpPr>
        <p:spPr>
          <a:xfrm>
            <a:off x="857160" y="1071720"/>
            <a:ext cx="7704360" cy="54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Özgün bir soruy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Açık uçlu sorular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Yarı kapalı sorular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Bireyle iletişim sağlanması</a:t>
            </a:r>
            <a:endParaRPr b="0" lang="en-US" sz="3800" spc="-1" strike="noStrike">
              <a:solidFill>
                <a:srgbClr val="3333ff"/>
              </a:solidFill>
              <a:latin typeface="Arial"/>
            </a:endParaRPr>
          </a:p>
          <a:p>
            <a:pPr>
              <a:spcBef>
                <a:spcPts val="9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BİREYLERLE İLETİŞİM KURARKEN;</a:t>
            </a:r>
            <a:endParaRPr b="0" lang="en-US" sz="3400" spc="-1" strike="noStrike">
              <a:solidFill>
                <a:srgbClr val="4e5b6f"/>
              </a:solidFill>
              <a:latin typeface="Arial"/>
            </a:endParaRPr>
          </a:p>
        </p:txBody>
      </p:sp>
      <p:sp>
        <p:nvSpPr>
          <p:cNvPr id="4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A2DD-CFA2-46DA-A796-9B434D20B879}"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9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54C1-7D03-4A8B-A93A-B909DD81ADF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97" name="Text Box 4"/>
          <p:cNvSpPr/>
          <p:nvPr/>
        </p:nvSpPr>
        <p:spPr>
          <a:xfrm>
            <a:off x="684360" y="1557360"/>
            <a:ext cx="820872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dan önce düşünülmeli</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Akıllıca ve iyi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lar anlamlı o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urken dinleyenlere bakı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işilerle içten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ısa ve öz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akin ve heyecansız olun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Hevesli ve istekli olunmalı</a:t>
            </a:r>
            <a:endParaRPr b="0" lang="en-US" sz="3200" spc="-1" strike="noStrike">
              <a:solidFill>
                <a:srgbClr val="3333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İLETİŞİM KURARKEN;</a:t>
            </a:r>
            <a:endParaRPr b="0" lang="en-US" sz="3600" spc="-1" strike="noStrike">
              <a:solidFill>
                <a:srgbClr val="4e5b6f"/>
              </a:solidFill>
              <a:latin typeface="Arial"/>
            </a:endParaRPr>
          </a:p>
        </p:txBody>
      </p:sp>
      <p:sp>
        <p:nvSpPr>
          <p:cNvPr id="4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5CF5-3913-4CCE-A212-3BE2429DEAC7}"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0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35CF-E5C3-47C4-BB14-6EE46D466B9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02" name="Text Box 4"/>
          <p:cNvSpPr/>
          <p:nvPr/>
        </p:nvSpPr>
        <p:spPr>
          <a:xfrm>
            <a:off x="684360" y="1916280"/>
            <a:ext cx="8208720" cy="3506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9.Jestler konuşmaya uygun ol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0.Göz teması sağ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1.Konuşma yarıda kesilmemeli</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2.Dinleyiciyi sıkmaktan kaçınıl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3.Fikirler bir merkezde top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4.Anlaşma ortamı sağ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5.İyi bir dinleyici olmalı</a:t>
            </a:r>
            <a:endParaRPr b="0" lang="en-US" sz="3200" spc="-1" strike="noStrike">
              <a:solidFill>
                <a:srgbClr val="3333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İLETİŞİM KURARKEN</a:t>
            </a:r>
            <a:endParaRPr b="0" lang="en-US" sz="3600" spc="-1" strike="noStrike">
              <a:solidFill>
                <a:srgbClr val="4e5b6f"/>
              </a:solidFill>
              <a:latin typeface="Arial"/>
            </a:endParaRPr>
          </a:p>
        </p:txBody>
      </p:sp>
      <p:sp>
        <p:nvSpPr>
          <p:cNvPr id="5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A89D-4DC3-4BD9-BFCA-A6940FC32177}"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0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1729-DC2E-49CF-A925-33ED57679457}"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07" name="Text Box 4"/>
          <p:cNvSpPr/>
          <p:nvPr/>
        </p:nvSpPr>
        <p:spPr>
          <a:xfrm>
            <a:off x="684360" y="1413000"/>
            <a:ext cx="8208720" cy="4480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İyi Bir Dinleyici Olmanın Koşulları;</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yı bırak, konuşanı rahatlat</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Dinlerken başka iş yapma, dinlediğini göster</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endini konuşanın yerine koy, sabırlı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ızma, kızdığını belli etme,sakin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eni eleştirirse dikkatli dinle, açık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oru sor, cevabını bekle, konuşmayı bırak</a:t>
            </a:r>
            <a:endParaRPr b="0" lang="en-US" sz="3200" spc="-1" strike="noStrike">
              <a:solidFill>
                <a:srgbClr val="3333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4360" y="549000"/>
            <a:ext cx="7704000" cy="718920"/>
          </a:xfrm>
          <a:prstGeom prst="rect">
            <a:avLst/>
          </a:prstGeom>
          <a:solidFill>
            <a:srgbClr val="00b050"/>
          </a:solidFill>
          <a:ln w="9360">
            <a:solidFill>
              <a:srgbClr val="00b05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TEFTİŞTE GRUP ÇALIŞMALARI</a:t>
            </a:r>
            <a:endParaRPr b="0" lang="en-US" sz="3600" spc="-1" strike="noStrike">
              <a:solidFill>
                <a:srgbClr val="4e5b6f"/>
              </a:solidFill>
              <a:latin typeface="Arial"/>
            </a:endParaRPr>
          </a:p>
        </p:txBody>
      </p:sp>
      <p:sp>
        <p:nvSpPr>
          <p:cNvPr id="5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DEB4-DA5C-4ED7-8D21-15B74A26A792}"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1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1957-DA13-463F-AE16-F47E1EEF7FC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12" name="Text Box 4"/>
          <p:cNvSpPr/>
          <p:nvPr/>
        </p:nvSpPr>
        <p:spPr>
          <a:xfrm>
            <a:off x="684360" y="1268280"/>
            <a:ext cx="8459640" cy="46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Müfettişin Grup Çalışmalarındaki Fonksiyonlar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Yöneticili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Danışmanlı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Gözleyicili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İzleyicilik fonksiyonu</a:t>
            </a: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762120"/>
            <a:ext cx="7704000" cy="91440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BİREY VE GRUPLARLA ÇALIŞMA</a:t>
            </a:r>
            <a:endParaRPr b="0" lang="en-US" sz="3000" spc="-1" strike="noStrike">
              <a:solidFill>
                <a:srgbClr val="4e5b6f"/>
              </a:solidFill>
              <a:latin typeface="Arial"/>
            </a:endParaRPr>
          </a:p>
        </p:txBody>
      </p:sp>
      <p:sp>
        <p:nvSpPr>
          <p:cNvPr id="428"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AB20-66F0-4477-A736-D8616F4294A0}"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29"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D6C3-1CF9-475B-A813-8E6CFC2FEC32}"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0" name="Text Box 8"/>
          <p:cNvSpPr/>
          <p:nvPr/>
        </p:nvSpPr>
        <p:spPr>
          <a:xfrm>
            <a:off x="684360" y="1628640"/>
            <a:ext cx="770400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Bir  grupta çalışan insanların çeşitli sorunları olur ve bu sorunları oluşturan faktörlerin farklı olabileceği gibi bir sorun, bireylerde farklı problemler yaratabilir. Bu problemler kişilerin çalışma ve başarısını etkiler. Bu sebeple önce problem tanımlanmalı daha sonra çözüm yolları aranmalıdır.</a:t>
            </a:r>
            <a:endParaRPr b="0" lang="en-US" sz="3000" spc="-1" strike="noStrike">
              <a:solidFill>
                <a:srgbClr val="3333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11280" y="549000"/>
            <a:ext cx="8137440" cy="934920"/>
          </a:xfrm>
          <a:prstGeom prst="rect">
            <a:avLst/>
          </a:prstGeom>
          <a:solidFill>
            <a:srgbClr val="00b050"/>
          </a:solid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DİNAMİĞİ :</a:t>
            </a:r>
            <a:endParaRPr b="0" lang="en-US" sz="4000" spc="-1" strike="noStrike">
              <a:solidFill>
                <a:srgbClr val="4e5b6f"/>
              </a:solidFill>
              <a:latin typeface="Arial"/>
            </a:endParaRPr>
          </a:p>
        </p:txBody>
      </p:sp>
      <p:sp>
        <p:nvSpPr>
          <p:cNvPr id="5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7B1E-5A71-46AF-9721-95DC554FDC42}"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1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D51D-9E78-46A2-83AD-CED577C3D08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17" name="Text Box 4"/>
          <p:cNvSpPr/>
          <p:nvPr/>
        </p:nvSpPr>
        <p:spPr>
          <a:xfrm>
            <a:off x="684360" y="1557360"/>
            <a:ext cx="7704000" cy="3140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Gruptaki kişiler arasındaki etkileşim grup dinamiğini oluşturur.Grup çalışmasına giren kişi sayısı arttıkça dinamik artar.Grup dinamiği değişmeyi öngörür.</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13b75"/>
                </a:solidFill>
                <a:latin typeface="Arial"/>
              </a:rPr>
              <a:t>Gruplar oluşumuna göre formal ve informal gruplar olarak ikiye ayrılır.</a:t>
            </a:r>
            <a:endParaRPr b="0" lang="en-US" sz="3200" spc="-1" strike="noStrike">
              <a:solidFill>
                <a:srgbClr val="3333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11280" y="549000"/>
            <a:ext cx="8137440" cy="934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GRUP ÇALIŞMALARININ TÜRLERİ</a:t>
            </a:r>
            <a:endParaRPr b="0" lang="en-US" sz="3600" spc="-1" strike="noStrike">
              <a:solidFill>
                <a:srgbClr val="4e5b6f"/>
              </a:solidFill>
              <a:latin typeface="Arial"/>
            </a:endParaRPr>
          </a:p>
        </p:txBody>
      </p:sp>
      <p:sp>
        <p:nvSpPr>
          <p:cNvPr id="5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D0DF-89AF-4968-95E0-23FE655579C5}"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2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D833-1BF2-4B4C-BCD4-027E442583BC}"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22" name="Text Box 4"/>
          <p:cNvSpPr/>
          <p:nvPr/>
        </p:nvSpPr>
        <p:spPr>
          <a:xfrm>
            <a:off x="684360" y="1557360"/>
            <a:ext cx="770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f2377"/>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Özel Grup Çalışmaları:</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   </a:t>
            </a:r>
            <a:r>
              <a:rPr b="0" lang="tr-TR" sz="3200" spc="-1" strike="noStrike">
                <a:solidFill>
                  <a:srgbClr val="29516d"/>
                </a:solidFill>
                <a:latin typeface="Arial"/>
              </a:rPr>
              <a:t>Belirli konuların konuşularak, karara varıldığı dinleyicilere kapalı toplantılardır.</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Başlıcaları; danışma,serbest tartışmalar ve komisyondur.</a:t>
            </a:r>
            <a:endParaRPr b="0" lang="en-US" sz="3200" spc="-1" strike="noStrike">
              <a:solidFill>
                <a:srgbClr val="3333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pic>
        <p:nvPicPr>
          <p:cNvPr id="523" name="7 Diyagram" descr=""/>
          <p:cNvPicPr/>
          <p:nvPr/>
        </p:nvPicPr>
        <p:blipFill>
          <a:blip r:embed="rId1"/>
          <a:stretch/>
        </p:blipFill>
        <p:spPr>
          <a:xfrm>
            <a:off x="603360" y="493560"/>
            <a:ext cx="8150040" cy="1090800"/>
          </a:xfrm>
          <a:prstGeom prst="rect">
            <a:avLst/>
          </a:prstGeom>
          <a:ln w="0">
            <a:noFill/>
          </a:ln>
        </p:spPr>
      </p:pic>
      <p:sp>
        <p:nvSpPr>
          <p:cNvPr id="5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495C-7C74-41BE-AF84-0212F79C6FA4}"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2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BBCD-9EA4-4790-9AA5-759F6D1D635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27" name="Text Box 4"/>
          <p:cNvSpPr/>
          <p:nvPr/>
        </p:nvSpPr>
        <p:spPr>
          <a:xfrm>
            <a:off x="684360" y="1557360"/>
            <a:ext cx="7704000" cy="399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B. Genel Grup Çalışmaları</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Açıklamalar yapmak, fikir alışverişinde bulunmak,ilgilileri etkilemek, kamuoyu yaratmak ve gerektiğinde kararları almak üzere yapılan çalışmalardır. Genellikle dinleyicilerde katılır. </a:t>
            </a:r>
            <a:endParaRPr b="0" lang="en-US" sz="2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nel grup çalışmalarının başlıcaları şunlardır: Panel, sempozyum, münazara, açık oturum, kolokyum, forum, kurultay, seminer</a:t>
            </a:r>
            <a:endParaRPr b="0" lang="en-US" sz="2800" spc="-1" strike="noStrike">
              <a:solidFill>
                <a:srgbClr val="3333ff"/>
              </a:solidFill>
              <a:latin typeface="Arial"/>
            </a:endParaRPr>
          </a:p>
        </p:txBody>
      </p:sp>
      <p:sp>
        <p:nvSpPr>
          <p:cNvPr id="528" name="6 Dikdörtgen"/>
          <p:cNvSpPr/>
          <p:nvPr/>
        </p:nvSpPr>
        <p:spPr>
          <a:xfrm>
            <a:off x="4479840" y="2967120"/>
            <a:ext cx="184320" cy="923760"/>
          </a:xfrm>
          <a:prstGeom prst="rect">
            <a:avLst/>
          </a:prstGeom>
          <a:noFill/>
          <a:ln w="9360">
            <a:solidFill>
              <a:srgbClr val="7fd13b"/>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pic>
        <p:nvPicPr>
          <p:cNvPr id="529" name="6 Diyagram" descr=""/>
          <p:cNvPicPr/>
          <p:nvPr/>
        </p:nvPicPr>
        <p:blipFill>
          <a:blip r:embed="rId1"/>
          <a:stretch/>
        </p:blipFill>
        <p:spPr>
          <a:xfrm>
            <a:off x="407880" y="517680"/>
            <a:ext cx="8358120" cy="555480"/>
          </a:xfrm>
          <a:prstGeom prst="rect">
            <a:avLst/>
          </a:prstGeom>
          <a:ln w="0">
            <a:noFill/>
          </a:ln>
        </p:spPr>
      </p:pic>
      <p:sp>
        <p:nvSpPr>
          <p:cNvPr id="5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714C-91B3-484E-93B2-6041545E0AEF}"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3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57A0-82F1-4100-ADF9-42649701D079}"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33" name="Text Box 4"/>
          <p:cNvSpPr/>
          <p:nvPr/>
        </p:nvSpPr>
        <p:spPr>
          <a:xfrm>
            <a:off x="642960" y="1071720"/>
            <a:ext cx="7704000" cy="550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üyelerinin çalışmaya istekli ve hazırlıklı olmalar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Fiziksel ortamın uygun o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Amacının formüle edilmesi, tanıtılması ve üyelere benimsetil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toplantısının demokratik o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Önemli problemlerin toplantılara getirilmesi ve tartışılmaya açık tutu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Fikir birliği sağlama yollarının aran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Liderliğin devredil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üyelerinin sırayla oturumları yönet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çalışmalarının değerlendirilmesi ve duyurulması</a:t>
            </a:r>
            <a:endParaRPr b="0" lang="en-US" sz="2500" spc="-1" strike="noStrike">
              <a:solidFill>
                <a:srgbClr val="3333ff"/>
              </a:solidFill>
              <a:latin typeface="Arial"/>
            </a:endParaRPr>
          </a:p>
          <a:p>
            <a:pPr marL="343080" indent="-343080">
              <a:spcBef>
                <a:spcPts val="624"/>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BAŞARILI GRUP ÇALIŞMASI İÇİN;</a:t>
            </a:r>
            <a:endParaRPr b="0" lang="en-US" sz="3600" spc="-1" strike="noStrike">
              <a:solidFill>
                <a:srgbClr val="4e5b6f"/>
              </a:solidFill>
              <a:latin typeface="Arial"/>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FEB2-9A1B-4F17-8E90-BC18A77F4FB9}"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3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F03F-7442-40AD-9A5B-604218D53532}"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38" name="Text Box 4"/>
          <p:cNvSpPr/>
          <p:nvPr/>
        </p:nvSpPr>
        <p:spPr>
          <a:xfrm>
            <a:off x="684360" y="1557360"/>
            <a:ext cx="7704000" cy="475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Sorunu gruba anlatarak görüş ve fikir birliği sağla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Engelleri saptamak, grubu yönel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Sorunla ilgili bilgi toplamak, analiz e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5N1K sorularına kesin yanıt ara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ısa ve özlü açıklamalar yap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Çözüm alternatiflerini kayde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Geçerli fikir bulana dek beliren fikirleri el altında tutmak</a:t>
            </a:r>
            <a:endParaRPr b="0" lang="en-US" sz="3000" spc="-1" strike="noStrike">
              <a:solidFill>
                <a:srgbClr val="3333ff"/>
              </a:solidFill>
              <a:latin typeface="Arial"/>
            </a:endParaRPr>
          </a:p>
          <a:p>
            <a:pPr marL="343080" indent="-343080">
              <a:spcBef>
                <a:spcPts val="751"/>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BAŞARILI GRUP ÇALIŞMASI İÇİN;</a:t>
            </a:r>
            <a:endParaRPr b="0" lang="en-US" sz="3600" spc="-1" strike="noStrike">
              <a:solidFill>
                <a:srgbClr val="4e5b6f"/>
              </a:solidFill>
              <a:latin typeface="Arial"/>
            </a:endParaRPr>
          </a:p>
        </p:txBody>
      </p:sp>
      <p:sp>
        <p:nvSpPr>
          <p:cNvPr id="5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3828-096D-432D-9A69-6FB956E9B0AF}"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4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ECE-FB2E-4CFA-A2D2-26A9FE1EE80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43" name="Text Box 4"/>
          <p:cNvSpPr/>
          <p:nvPr/>
        </p:nvSpPr>
        <p:spPr>
          <a:xfrm>
            <a:off x="684360" y="1557360"/>
            <a:ext cx="7704000" cy="475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8.Anlaşmazlık ve tartışmaları önlemek,ortam yaratm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9.Sonradan çıkan sorunları saptamak ve formüle etme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0.Esas soruna etkilerini sapt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1.Esas ve diğer sorunlarla ilgili çözüm yolları sapt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2.Alternatifler arasından en etkili sorunu seçmek ve grup kararı sağlamak</a:t>
            </a:r>
            <a:endParaRPr b="0" lang="en-US" sz="3000" spc="-1" strike="noStrike">
              <a:solidFill>
                <a:srgbClr val="3333ff"/>
              </a:solidFill>
              <a:latin typeface="Arial"/>
            </a:endParaRPr>
          </a:p>
          <a:p>
            <a:pPr marL="343080" indent="-343080">
              <a:spcBef>
                <a:spcPts val="751"/>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68000" y="260280"/>
            <a:ext cx="8280360" cy="122400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ÇALIŞMASININ SINIRLILIKLARI</a:t>
            </a:r>
            <a:endParaRPr b="0" lang="en-US" sz="4000" spc="-1" strike="noStrike">
              <a:solidFill>
                <a:srgbClr val="4e5b6f"/>
              </a:solidFill>
              <a:latin typeface="Arial"/>
            </a:endParaRPr>
          </a:p>
        </p:txBody>
      </p:sp>
      <p:sp>
        <p:nvSpPr>
          <p:cNvPr id="54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5087-F26C-4981-9078-19FBA632AC43}"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4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384A-B697-4FA4-80D4-4097F6CA53BA}"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48" name="Text Box 4"/>
          <p:cNvSpPr/>
          <p:nvPr/>
        </p:nvSpPr>
        <p:spPr>
          <a:xfrm>
            <a:off x="684360" y="1557360"/>
            <a:ext cx="770400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İsteksiz ve ilgisiz olan üyelerle grup çalışması yürütüleme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örüşleri esasta farklı, peşin hükümlü, kasıtlı davranan üyeler anlaşama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veze, karamsar, ilgisiz ve kavgacı üyeler nesnel karar veremezler.</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Kurumlarda karşılaşılan her problem grup çalışmaları yolu ile çözüleme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p çalışmaları sonunda bilim ve fikir üretiminin olacağı beklenemez</a:t>
            </a:r>
            <a:endParaRPr b="0" lang="en-US" sz="2800" spc="-1" strike="noStrike">
              <a:solidFill>
                <a:srgbClr val="3333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0"/>
            <a:ext cx="8569440" cy="134136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tr-TR" sz="4000" spc="-1" strike="noStrike">
                <a:solidFill>
                  <a:srgbClr val="1f2377"/>
                </a:solidFill>
                <a:latin typeface="Times New Roman"/>
                <a:ea typeface="Times New Roman"/>
              </a:rPr>
              <a:t>GRUP TOPLANTISI   PLANLANIRKEN;</a:t>
            </a:r>
            <a:endParaRPr b="0" lang="en-US" sz="4000" spc="-1" strike="noStrike">
              <a:solidFill>
                <a:srgbClr val="4e5b6f"/>
              </a:solidFill>
              <a:latin typeface="Arial"/>
            </a:endParaRPr>
          </a:p>
        </p:txBody>
      </p:sp>
      <p:sp>
        <p:nvSpPr>
          <p:cNvPr id="5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AE75-ADBB-40C4-ADB3-19F61CD7E944}"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5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824C-0ED2-444A-BACC-D21B201EECD3}"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53" name="Text Box 4"/>
          <p:cNvSpPr/>
          <p:nvPr/>
        </p:nvSpPr>
        <p:spPr>
          <a:xfrm>
            <a:off x="503280" y="1413000"/>
            <a:ext cx="86407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Grup toplantısının amaçları sapt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Amaca uygun gündem hazır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 için gerekli bilgiler sağ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Bilgiler kolaylıkla sunulur hale getir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ya katılacaklar belirlen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Gerekirse katılacaklar ile ön görüşme yapıl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ya katılacaklara gündem ve duyuru gönder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da kullanılacak araçlar sağ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 yerinin uygun olması için hazırlık yapıl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Yapılan tüm işlemler kontrol ed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11280" y="404640"/>
            <a:ext cx="8137440" cy="115128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TOPLANTILARINDA DİKKAT EDİLECEK HUSUSLAR</a:t>
            </a:r>
            <a:endParaRPr b="0" lang="en-US" sz="4000" spc="-1" strike="noStrike">
              <a:solidFill>
                <a:srgbClr val="4e5b6f"/>
              </a:solidFill>
              <a:latin typeface="Arial"/>
            </a:endParaRPr>
          </a:p>
        </p:txBody>
      </p:sp>
      <p:sp>
        <p:nvSpPr>
          <p:cNvPr id="5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A6D8-271A-4366-9C92-C4AFCD072AB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5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CE89-941F-4029-9A8D-2C537E045C92}"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58" name="Text Box 4"/>
          <p:cNvSpPr/>
          <p:nvPr/>
        </p:nvSpPr>
        <p:spPr>
          <a:xfrm>
            <a:off x="755640" y="1844640"/>
            <a:ext cx="770400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gündemi sınırlı ol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küçük ve homojen grupla yapılmalı katılım sağlan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Süreyi aşılmamalı, ortam sakin ve rahat ol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görüşülecek sorun gruba anlatılmalı, problemin önemi hissettirilmeli.</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niçin, nasıl, kim, hangi, nerede, ne zaman sorularına yanıt aranmalı</a:t>
            </a:r>
            <a:r>
              <a:rPr b="0" lang="tr-TR" sz="2600" spc="-1" strike="noStrike">
                <a:solidFill>
                  <a:srgbClr val="29516d"/>
                </a:solidFill>
                <a:latin typeface="Arial"/>
              </a:rPr>
              <a:t>, </a:t>
            </a:r>
            <a:endParaRPr b="0" lang="en-US" sz="2600" spc="-1" strike="noStrike">
              <a:solidFill>
                <a:srgbClr val="3333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333360"/>
            <a:ext cx="8137440" cy="122256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300" spc="-1" strike="noStrike" u="sng">
                <a:solidFill>
                  <a:srgbClr val="1f2377"/>
                </a:solidFill>
                <a:uFillTx/>
                <a:latin typeface="Arial Black"/>
                <a:ea typeface="Times New Roman"/>
              </a:rPr>
              <a:t>GRUP TOPLANTILARINDA DİKKAT EDİLECEK HUSUSLAR</a:t>
            </a:r>
            <a:endParaRPr b="0" lang="en-US" sz="3300" spc="-1" strike="noStrike">
              <a:solidFill>
                <a:srgbClr val="4e5b6f"/>
              </a:solidFill>
              <a:latin typeface="Arial"/>
            </a:endParaRPr>
          </a:p>
        </p:txBody>
      </p:sp>
      <p:sp>
        <p:nvSpPr>
          <p:cNvPr id="5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C3A6-0019-4203-93FE-3F286A0F0A45}"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6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BAD2-C101-4769-B3E3-15400AC1C58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63" name="Text Box 4"/>
          <p:cNvSpPr/>
          <p:nvPr/>
        </p:nvSpPr>
        <p:spPr>
          <a:xfrm>
            <a:off x="755640" y="1844640"/>
            <a:ext cx="770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artışılacak sorunla ilgili bilgilerin analizi sağlanmalı, çözümler için görüş alın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da kişisel sorunlar giderilmeli ve konu dışına çıkılma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Sorun ile ilgili birden fazla çözüm yolu bulunarak grupça karar verilmeli.</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 sonunda sonuç özetlenmeli tutanak haline getirilmeli ve üyelere imzalatıl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 sürekli olacaksa gelecek toplantı tarihi ve gündemi üyelerce saptanmalı</a:t>
            </a:r>
            <a:r>
              <a:rPr b="0" lang="tr-TR" sz="2800" spc="-1" strike="noStrike">
                <a:solidFill>
                  <a:srgbClr val="29516d"/>
                </a:solidFill>
                <a:latin typeface="Arial"/>
              </a:rPr>
              <a:t>.</a:t>
            </a:r>
            <a:endParaRPr b="0" lang="en-US" sz="2800" spc="-1" strike="noStrike">
              <a:solidFill>
                <a:srgbClr val="3333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549000"/>
            <a:ext cx="7704000" cy="718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BELİRTİLERİ</a:t>
            </a:r>
            <a:endParaRPr b="0" lang="en-US" sz="3000" spc="-1" strike="noStrike">
              <a:solidFill>
                <a:srgbClr val="4e5b6f"/>
              </a:solidFill>
              <a:latin typeface="Arial"/>
            </a:endParaRPr>
          </a:p>
        </p:txBody>
      </p:sp>
      <p:sp>
        <p:nvSpPr>
          <p:cNvPr id="432"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9786-F80C-4370-9FC9-992B89137CCB}"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33"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ED4F-5C42-462E-BFDE-08FB202CEDA0}"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4" name="Text Box 4"/>
          <p:cNvSpPr/>
          <p:nvPr/>
        </p:nvSpPr>
        <p:spPr>
          <a:xfrm>
            <a:off x="755640" y="1125360"/>
            <a:ext cx="7993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 İşini severek yaparken işe isteksiz gelmeye başla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 Hastalığı olmaksızın yüzünde solma ve bedeninde zayıflama görülü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3. Olayları olduğundan fazla büyütür. Aşırı hassasiyet göster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4. Aşırı sinir, titreme, irkilme göster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5. Tik sahibi olu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6. Sorumluluklarını yerine getirmede isteksiz ve yetersizd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7. Konuşurken rahat değildir. Oturamaz ayakta gezin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8. Eskiye nazaran suskunlaşmıştı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9. Bir olayı defalarca aynı heyecanla anlatı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0. Konuşurken birden bire sertleşir ve sesini yükseltir</a:t>
            </a:r>
            <a:endParaRPr b="0" lang="en-US" sz="2400" spc="-1" strike="noStrike">
              <a:solidFill>
                <a:srgbClr val="3333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KARARI</a:t>
            </a:r>
            <a:endParaRPr b="0" lang="en-US" sz="4000" spc="-1" strike="noStrike">
              <a:solidFill>
                <a:srgbClr val="4e5b6f"/>
              </a:solidFill>
              <a:latin typeface="Arial"/>
            </a:endParaRPr>
          </a:p>
        </p:txBody>
      </p:sp>
      <p:sp>
        <p:nvSpPr>
          <p:cNvPr id="56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DE1A-8267-4444-8FC8-FE1521D3C32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6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B760-E111-4319-B07F-F810F115626C}"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67" name="Text Box 4"/>
          <p:cNvSpPr/>
          <p:nvPr/>
        </p:nvSpPr>
        <p:spPr>
          <a:xfrm>
            <a:off x="642960" y="1357200"/>
            <a:ext cx="7704000" cy="48754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Hedeflerin belirlenmesi,</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p liderinin rolü,</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Karara tam ve etkin katılım,</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Liderin üyelere güven vermesi ve saygı duyması ile bunu hissettirmesi,</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rekli bilgi ve veriye sahip olma,</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süresince ve sonucunda üyelerin  tepkilerini ölçme,</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bun sağlıklı kararlar vermesinde etkilidir.</a:t>
            </a:r>
            <a:endParaRPr b="0" lang="en-US" sz="2800" spc="-1" strike="noStrike">
              <a:solidFill>
                <a:srgbClr val="3333ff"/>
              </a:solidFill>
              <a:latin typeface="Arial"/>
            </a:endParaRPr>
          </a:p>
          <a:p>
            <a:pPr marL="343080" indent="-343080">
              <a:spcBef>
                <a:spcPts val="700"/>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283B-4FB7-484B-9678-899D2F85205A}"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70"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B4AE-A7A9-49F3-BABA-093157263BD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71" name="Text Box 4"/>
          <p:cNvSpPr/>
          <p:nvPr/>
        </p:nvSpPr>
        <p:spPr>
          <a:xfrm>
            <a:off x="571680" y="1214280"/>
            <a:ext cx="7704000" cy="5348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nın adı</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tarihi ve saat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nın yapılacağı ye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anların isimler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mayacakların isimler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konusu ve tartışılacak sorun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Ortaya konan diğer sorun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Yapılan konuşma özetleri ve önerile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alınan karar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anların imzaları</a:t>
            </a:r>
            <a:endParaRPr b="0" lang="en-US" sz="2800" spc="-1" strike="noStrike">
              <a:solidFill>
                <a:srgbClr val="3333ff"/>
              </a:solidFill>
              <a:latin typeface="Arial"/>
            </a:endParaRPr>
          </a:p>
          <a:p>
            <a:pPr marL="343080" indent="-34308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343080" indent="-343080">
              <a:spcBef>
                <a:spcPts val="700"/>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p:txBody>
      </p:sp>
      <p:sp>
        <p:nvSpPr>
          <p:cNvPr id="572" name="Text Box 6"/>
          <p:cNvSpPr/>
          <p:nvPr/>
        </p:nvSpPr>
        <p:spPr>
          <a:xfrm>
            <a:off x="826920" y="561960"/>
            <a:ext cx="756144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e5b6f"/>
                </a:solidFill>
                <a:latin typeface="Arial"/>
              </a:rPr>
              <a:t>Toplantı Tutanağı</a:t>
            </a:r>
            <a:endParaRPr b="0" lang="en-US" sz="3600" spc="-1" strike="noStrike">
              <a:solidFill>
                <a:srgbClr val="3333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0687-6931-4FAA-BDA3-0EFDBA05BCF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575"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493E-1627-4215-8BE8-9777D45A06D2}"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76" name="Text Box 3"/>
          <p:cNvSpPr/>
          <p:nvPr/>
        </p:nvSpPr>
        <p:spPr>
          <a:xfrm>
            <a:off x="684360" y="1557360"/>
            <a:ext cx="7704000" cy="442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   </a:t>
            </a:r>
            <a:r>
              <a:rPr b="1" lang="tr-TR" sz="3200" spc="-1" strike="noStrike">
                <a:solidFill>
                  <a:srgbClr val="29516d"/>
                </a:solidFill>
                <a:latin typeface="Arial"/>
              </a:rPr>
              <a:t>Bir gruba belirli zamanda toplu olarak, açıklamalarda bulunmak üzere yapılan grup çalışmasıdır. Dinleyiciler anlamadıklarını konferans veren kişiye sorabilirler ancak; tartışma ve karar alınması söz konusu değildir.</a:t>
            </a:r>
            <a:endParaRPr b="0" lang="en-US" sz="3200" spc="-1" strike="noStrike">
              <a:solidFill>
                <a:srgbClr val="3333ff"/>
              </a:solidFill>
              <a:latin typeface="Arial"/>
            </a:endParaRPr>
          </a:p>
          <a:p>
            <a:pPr marL="343080" indent="-343080">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ff"/>
              </a:solidFill>
              <a:latin typeface="Arial"/>
            </a:endParaRPr>
          </a:p>
          <a:p>
            <a:pPr marL="343080" indent="-343080">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ff"/>
              </a:solidFill>
              <a:latin typeface="Arial"/>
            </a:endParaRPr>
          </a:p>
        </p:txBody>
      </p:sp>
      <p:sp>
        <p:nvSpPr>
          <p:cNvPr id="577" name="Text Box 4"/>
          <p:cNvSpPr/>
          <p:nvPr/>
        </p:nvSpPr>
        <p:spPr>
          <a:xfrm>
            <a:off x="826920" y="561960"/>
            <a:ext cx="756144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e5b6f"/>
                </a:solidFill>
                <a:latin typeface="Arial"/>
              </a:rPr>
              <a:t>Konferanslar</a:t>
            </a:r>
            <a:endParaRPr b="0" lang="en-US" sz="3600" spc="-1" strike="noStrike">
              <a:solidFill>
                <a:srgbClr val="3333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4360" y="549360"/>
            <a:ext cx="7704000" cy="79200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BELİRTİLERİ</a:t>
            </a:r>
            <a:endParaRPr b="0" lang="en-US" sz="3000" spc="-1" strike="noStrike">
              <a:solidFill>
                <a:srgbClr val="4e5b6f"/>
              </a:solidFill>
              <a:latin typeface="Arial"/>
            </a:endParaRPr>
          </a:p>
        </p:txBody>
      </p:sp>
      <p:sp>
        <p:nvSpPr>
          <p:cNvPr id="43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0111-DC13-4988-BB28-60415E9592E3}"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3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DF79-5D05-4D99-B662-8DCCA570703D}"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8" name="Text Box 4"/>
          <p:cNvSpPr/>
          <p:nvPr/>
        </p:nvSpPr>
        <p:spPr>
          <a:xfrm>
            <a:off x="539640" y="1125360"/>
            <a:ext cx="828036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1. Alkol almaya başlar ya da dozunu yükselti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2. Sakinleştirici kullanma ihtiyacı duyar ya da kullan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3. Çalışma arkadaşlarıyla problem yaşamaya başl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4. Birlikte çalıştığı kimseler hakkında şikayetleri art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5. Disiplin sorunları yaşamaya başl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6. Sosyal bir insanken inzivaya çekilir. </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7. Yardımsever bir insanken bu konuda duyarsızlaş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8. Sözünde durmamaya başlar ya da sözünü geri al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9. İşinde başarısız olduğunda suçu başkalarına yükle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0. İnsanların iyi yönlerinden çok kötü yönlerinden söz</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ede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1. Beraber çalıştığı insanlardan paranoyakça şüphe duyar</a:t>
            </a:r>
            <a:endParaRPr b="0" lang="en-US" sz="2400" spc="-1" strike="noStrike">
              <a:solidFill>
                <a:srgbClr val="3333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476280"/>
            <a:ext cx="7704000" cy="9367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PROBLEM ÇÖZÜMÜ</a:t>
            </a:r>
            <a:endParaRPr b="0" lang="en-US" sz="3400" spc="-1" strike="noStrike">
              <a:solidFill>
                <a:srgbClr val="4e5b6f"/>
              </a:solidFill>
              <a:latin typeface="Arial"/>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B657-76EB-483A-9B3D-047F0B09319B}"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4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87B8-DA82-4ABF-85B5-EF6A44BE691B}"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43" name="Rectangle 5"/>
          <p:cNvSpPr/>
          <p:nvPr/>
        </p:nvSpPr>
        <p:spPr>
          <a:xfrm>
            <a:off x="684360" y="1268280"/>
            <a:ext cx="7775280" cy="42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Problemi çözmek, beklenen sonuç ile gerçekleşen sonuç arasındaki farkı yaratan yada ve yaratacak olan engeli ortadan kaldırmaktır.</a:t>
            </a:r>
            <a:r>
              <a:rPr b="0" lang="tr-TR" sz="2800" spc="-1" strike="noStrike">
                <a:solidFill>
                  <a:srgbClr val="29516d"/>
                </a:solidFill>
                <a:latin typeface="Arial"/>
              </a:rPr>
              <a:t> </a:t>
            </a:r>
            <a:endParaRPr b="0" lang="en-US" sz="2800" spc="-1" strike="noStrike">
              <a:solidFill>
                <a:srgbClr val="3333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29516d"/>
                </a:solidFill>
                <a:latin typeface="Arial"/>
              </a:rPr>
              <a:t>Bireylerin Karşılaştıkları Problemler Durum Evrelerine Göre Üç Kısma Ayrılır</a:t>
            </a:r>
            <a:endParaRPr b="0" lang="en-US" sz="3000" spc="-1" strike="noStrike">
              <a:solidFill>
                <a:srgbClr val="3333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 Önceden meydana gelmiş problemler</a:t>
            </a:r>
            <a:endParaRPr b="0" lang="en-US" sz="3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2. Var olan ve çözüm bekleyen problemler</a:t>
            </a:r>
            <a:endParaRPr b="0" lang="en-US" sz="3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3. Önlem alınarak çözülebilecek problemler</a:t>
            </a:r>
            <a:endParaRPr b="0" lang="en-US" sz="3000" spc="-1" strike="noStrike">
              <a:solidFill>
                <a:srgbClr val="3333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4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8257-ED77-4286-8F5C-84A53FD87F86}"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4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ADDA-B23A-4544-A26A-C80FF5E5D9A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47" name="Text Box 6"/>
          <p:cNvSpPr/>
          <p:nvPr/>
        </p:nvSpPr>
        <p:spPr>
          <a:xfrm>
            <a:off x="1979640" y="2224080"/>
            <a:ext cx="396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48" name="2 İçerik Yer Tutucusu"/>
          <p:cNvSpPr/>
          <p:nvPr/>
        </p:nvSpPr>
        <p:spPr>
          <a:xfrm>
            <a:off x="457200" y="1197000"/>
            <a:ext cx="8229600" cy="51116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cc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547560" indent="-41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ea typeface="Times New Roman"/>
              </a:rPr>
              <a:t>    </a:t>
            </a:r>
            <a:r>
              <a:rPr b="0" lang="tr-TR" sz="3200" spc="-1" strike="noStrike">
                <a:solidFill>
                  <a:srgbClr val="29516d"/>
                </a:solidFill>
                <a:latin typeface="Arial"/>
                <a:ea typeface="Times New Roman"/>
              </a:rPr>
              <a:t>Bir problemi çözmenin iki ya da daha fazla yolu varsa, en uygun ve en iyisinin seçilmesi beklenir. Bu yüzden problem çözme ve karar verme birbiri ile yakından ilgilidir. Bu durumda problem çözme aslında bir karar verme sürecidir.</a:t>
            </a:r>
            <a:endParaRPr b="0" lang="en-US" sz="3200" spc="-1" strike="noStrike">
              <a:solidFill>
                <a:srgbClr val="3333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836640"/>
            <a:ext cx="770400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ÇÖZME AŞAMALARI</a:t>
            </a:r>
            <a:endParaRPr b="0" lang="en-US" sz="3000" spc="-1" strike="noStrike">
              <a:solidFill>
                <a:srgbClr val="4e5b6f"/>
              </a:solidFill>
              <a:latin typeface="Arial"/>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4BCA-F62E-4642-B66A-F2B0DB89FAD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5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1891-8070-4DA8-AC74-856821CD4F5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53" name="Text Box 4"/>
          <p:cNvSpPr/>
          <p:nvPr/>
        </p:nvSpPr>
        <p:spPr>
          <a:xfrm>
            <a:off x="684360" y="1557360"/>
            <a:ext cx="8459640" cy="394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 Problemin Tanım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2. Bilgilerin Top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3. Nedenlerin Sıra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4. Alternatif Çözümlerin Belirlen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5. Alternatiflerin Değerlendiril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6. Çözüm Alternatifinin Seçil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7. Uygulama Planının Hazır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29516d"/>
                </a:solidFill>
                <a:latin typeface="Arial"/>
              </a:rPr>
              <a:t>8. Uygulamanın İzlenmesi Ve Değerlendirilmesi</a:t>
            </a:r>
            <a:endParaRPr b="0" lang="en-US" sz="2900" spc="-1" strike="noStrike">
              <a:solidFill>
                <a:srgbClr val="3333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836640"/>
            <a:ext cx="770400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ÇALIŞMA</a:t>
            </a:r>
            <a:endParaRPr b="0" lang="en-US" sz="3600" spc="-1" strike="noStrike">
              <a:solidFill>
                <a:srgbClr val="4e5b6f"/>
              </a:solidFill>
              <a:latin typeface="Arial"/>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A544-072D-4827-BE5E-BEEE56A59041}"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5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8295-62E0-4CAC-A0FD-A9400BB928B3}"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58" name="Text Box 4"/>
          <p:cNvSpPr/>
          <p:nvPr/>
        </p:nvSpPr>
        <p:spPr>
          <a:xfrm>
            <a:off x="684360" y="1557360"/>
            <a:ext cx="8459640" cy="40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13b75"/>
                </a:solidFill>
                <a:latin typeface="Arial"/>
              </a:rPr>
              <a:t>Başlıca işlemler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 Uygulamayı yerinde görme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2. Olumlu sonuç veren yöntemleri yaygınlaştırma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3. Düzeltilmesi gereken hataları saptama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4. Hataları yerinde ve zamanında giderme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5. Bireylerin çalışmalarını değerlendirmek</a:t>
            </a: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549360"/>
            <a:ext cx="806472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2377"/>
                </a:solidFill>
                <a:latin typeface="Arial"/>
              </a:rPr>
              <a:t>BİREYLERLE BİRLİKTE ÇALIŞMA  AMAÇLARI</a:t>
            </a:r>
            <a:endParaRPr b="0" lang="en-US" sz="2800" spc="-1" strike="noStrike">
              <a:solidFill>
                <a:srgbClr val="4e5b6f"/>
              </a:solidFill>
              <a:latin typeface="Arial"/>
            </a:endParaRPr>
          </a:p>
        </p:txBody>
      </p:sp>
      <p:sp>
        <p:nvSpPr>
          <p:cNvPr id="4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56CE-B306-4067-AD8B-0D4C4FB65E93}" type="datetime">
              <a:rPr b="0" lang="tr-TR" sz="1200" spc="-1" strike="noStrike">
                <a:solidFill>
                  <a:srgbClr val="4e5b6f"/>
                </a:solidFill>
                <a:latin typeface="Arial"/>
              </a:rPr>
              <a:t>31.07.26</a:t>
            </a:fld>
            <a:endParaRPr b="0" lang="en-US" sz="1200" spc="-1" strike="noStrike">
              <a:solidFill>
                <a:srgbClr val="3333ff"/>
              </a:solidFill>
              <a:latin typeface="Arial"/>
            </a:endParaRPr>
          </a:p>
        </p:txBody>
      </p:sp>
      <p:sp>
        <p:nvSpPr>
          <p:cNvPr id="46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9F0B-2B4B-4B01-9E59-969840A8D49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63" name="Text Box 4"/>
          <p:cNvSpPr/>
          <p:nvPr/>
        </p:nvSpPr>
        <p:spPr>
          <a:xfrm>
            <a:off x="684360" y="1341360"/>
            <a:ext cx="82087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 Bireyin çalışması hakkında bilgi edin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2. Bireyin iyi ve ümit verici yeteneklerini sapta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3. Başarıyı etkileyecek faktörleri yerinde gö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4. Bireyin eksik yönlerini ve nedenlerini belirle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5. Yetişme eksikliğini hizmetiçi eğitim yoluyla gide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6. Bireye yapılan yardımla, teftişe güven kazandır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7. Görevlerini daha yapmasına yardımcı ol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8. Bireylerin sosyal ve ekonomik haklarını koru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9. Bireyin gelişimini sağlayacak amaçlar gelişti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0. Bireyin başarısını objektif olarak değerlendirmek</a:t>
            </a:r>
            <a:endParaRPr b="0" lang="en-US" sz="2600" spc="-1" strike="noStrike">
              <a:solidFill>
                <a:srgbClr val="3333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4:16:55Z</dcterms:created>
  <dc:creator>yagmur</dc:creator>
  <dc:description/>
  <dc:language>en-US</dc:language>
  <cp:lastModifiedBy>MyPC</cp:lastModifiedBy>
  <dcterms:modified xsi:type="dcterms:W3CDTF">2011-01-03T05:55:08Z</dcterms:modified>
  <cp:revision>19</cp:revision>
  <dc:subject/>
  <dc:title>Hdhsı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55</vt:lpwstr>
  </property>
</Properties>
</file>